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8DF-2226-4186-9D81-A30F3A46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00D-9ABA-45ED-8B59-6FC73FB7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7B8-3677-4E11-9CA9-B4A33E68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E93-13DD-4C1A-B463-98F965D2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FDE-D5DA-4095-A4F0-4E0376D3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E28-F7C4-4187-A9F7-351664A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3DF-43F4-4CC5-9F1A-4D01482E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1E1-6AAA-4EC4-A754-B10C815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2A9-C025-413C-8F68-C100EC1F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3F4-8160-4255-87CC-BCD4A85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652-FF34-4029-8D19-8C6F00C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3EC-95C8-4B18-AB16-7D638EB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9B00-D294-4927-8254-6C5AF0ACD21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arthquake In A LED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Turkey;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ntred around Izmit in Northwest Turkey, the earthquake occurred on Tuesday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gust 1999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affected an area over a radius of 80k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cluded a death toll of approximately 5,500, with another 30,000 injured and 250,000 made homeles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ver 100,000 buildings collaps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frastructure damage included a 1km stretch of elevated road, numerous railway bridges, and 120 of the city's 150 quay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f 1200 people rescued on the day of the quake, only 300 survived because of the totally inadequate hospital facil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d outbreaks of cholera and typhoid, due to the polluted water supp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made homeless by the quake had no escape from the intense heat, dust and stench of rotting bod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days after the quake there was no water, electricity or sewage systems wor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at of disease was so great that rescue workers had to wear protective gloves and masks, and the cities Gocuk, Yalova and Izmit had large areas quarant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ook the Government in Ankara 48 hours to organise emergency troops to go to the area. Locals were totally unprepared for the disaster, despite it being a common earthquake 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03:57Z</dcterms:created>
  <dc:creator>Dell_02</dc:creator>
  <dc:description/>
  <dc:language>en-US</dc:language>
  <cp:lastModifiedBy>Dell_02</cp:lastModifiedBy>
  <dcterms:modified xsi:type="dcterms:W3CDTF">2011-01-26T14:09:29Z</dcterms:modified>
  <cp:revision>1</cp:revision>
  <dc:subject/>
  <dc:title>Earthquake In A LEDC</dc:title>
</cp:coreProperties>
</file>